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96D-0AC9-4081-AD21-CAB8D2AF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519-23D4-4237-84EB-9386973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0EE-2482-4BBD-BBFD-2DCB3A6D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7C9-17B0-4D6D-8400-4E1336B9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D20C-75EF-449B-89AC-846A6DA0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1D1-EF90-4965-AD29-5FDB993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C346-7B7C-4C91-9ACF-F88E42E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E53-8955-4BBE-BF15-D842E40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197-3C15-4A08-AD30-DB65E86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E2A9-6074-40A9-8F7F-BC405235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9E01-6DD6-4994-A35B-5875D35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BFC-6C81-4A29-9BD1-8873F7F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9301-9E2F-4520-A3D0-25E96FD7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8DB-6DE6-4262-8E04-1AD96D3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B29-3BEE-4494-8EB9-B6E9E50C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A358-6122-4527-8FE3-C7773ED0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DF0-5787-4DE3-A7C0-DF4D537C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ACE0-F68C-44C3-A13C-C7484BEE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4722-6AAE-481E-A554-E2CECB2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F686-A374-4BCA-A470-025DF82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6FCF-6415-42B2-8858-307609B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0BA3-5E21-4ADC-9201-0A6EC39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20F-D87E-4A12-8E4A-AB8F085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3F64-19EB-4BAC-AD45-A6B7761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E6D4-C80A-4FAA-A47F-B43F7A4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17C5-3082-43FA-AAD5-C265A5F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8319-6211-4107-A077-D8D6A76C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8412-BD1C-47DA-A41B-13EA46E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3B34-585A-45EA-BE5C-E5A5ABC3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3F30-186A-4F54-9A77-5C47C2C6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2995-895B-4D82-A00A-89B903A4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42EF-F8FF-4DF3-9013-114274A9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5270-88F5-4E64-869B-EB5DDAD4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8D9-1463-4234-BC53-2517EEE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83BC-9A13-4EB0-8E5B-DEDDCA9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9EE8D-CB66-4681-A878-F454BA52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9775-9FEB-4E53-9165-D3A4963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0638-6CF1-4AA5-9C3C-39AFA88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C043-206B-4681-BB82-D3ECE51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2015-A342-490A-B97F-03D6EBD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CFBE-A716-4EAC-8C3D-43DE13B1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F966-B131-4661-A8D8-898293A5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C843-3449-49FF-B7F0-D767EA80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2DCE-EA11-4806-9571-95D3B00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1BD-5A3B-42BE-B97E-5E8FDE7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0C41-30FB-4264-B1E7-D37C6D4E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C788-4780-4E15-8C6E-A59B7EC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533D-B7ED-4121-9D03-37E0BBE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75FE-990F-48C1-83C7-EAD154D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172E-0C65-424B-B9C8-F7F4854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57A7-5D09-4745-A09A-1CD8D4E6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98C5-56F3-4848-B91A-C6296F2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F5A0-26D9-4414-BF8C-2979C85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1FF8C-82A2-4C8E-B097-983E243F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E8BE-B4CB-4806-A676-408D3031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D62-42EA-4FAC-9345-23F85D8C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D9A9-03E6-4D0B-AD27-9E0B00EF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0EED-6723-4C25-B931-DA290CDB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A2F1-C434-489C-B3DA-0CC9491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F861B-1678-4608-9092-E2D8B744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C137-6EE2-4F2F-9EBF-9D2E9A0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5A96-C37A-4C5F-9115-2CA2DEE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BFBD-2133-4E1D-A6E1-391B70C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0230-72A3-4355-9207-881A373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2C48C-D3BA-4D53-B689-9DFB3CE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AE24-C4FA-4C87-BE04-287248DA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81D-0F7B-49C3-9AAA-364FBE4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D7C4-5140-4AD4-AEF4-E760841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B7F4-D402-4897-A3D3-05BCD362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4AA6-C265-4A1C-B9CA-5070B744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B667B-A1CA-4838-B3ED-643F536B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1DEE-9CE0-42AB-97C2-6E3EF55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E15D-194F-4558-BA1A-EA34092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15F5-1A14-49EC-97F1-1E871C4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77FC9-55A1-4E8F-9BF9-ECD40FA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8D56-2B6B-4E36-8105-8265E8E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36C5-4DCB-4EF3-9CEF-3101212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468-5032-4C4E-838A-611AA0B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A8F7-1DC3-4E61-A511-AAB9A7D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D4FD-986F-4719-A2B5-10B5682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7AC2-1194-46C4-AC42-748F3B6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A796-222B-4D76-A6E3-093215E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47F6-8E2A-4136-ACD7-EA3C17C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828-B80D-481B-8DE6-F9FE445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0E9E-758D-4AB1-85FB-36CD5F9E0D0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CA6-DDF3-428F-B632-180D776EDA3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E8E-23AA-468C-A37A-4DD7986E873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39C-B9D2-4B8D-9C54-853C429DC61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DD3B-163D-4680-A812-3C903A8B8BD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A54-C9F5-45FE-95AC-A69348CD1C6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B35-D552-49C5-89EF-C45AE9E8259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tential.org.ru/pub/Info/ArtDt200509292052PH3C1J9/1_5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potential.org.ru/Info/ArtDt200502291619PH3C2J2" TargetMode="External"/><Relationship Id="rId4" Type="http://schemas.openxmlformats.org/officeDocument/2006/relationships/hyperlink" Target="http://dic.academic.ru/dic.nsf/ruwiki/24164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93600" y="3681360"/>
            <a:ext cx="7785360" cy="1298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14280" y="3571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чебного проекта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27860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071960" y="521496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: Малышев Василий Валентино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2500200" y="6143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ыктывкар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357120" y="42876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представить информацию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Проблемный вопрос учебной тем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ак компьютер работает с числам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28760" y="2571840"/>
            <a:ext cx="49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ебные предметы: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математика, информати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4643280"/>
            <a:ext cx="42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Участники: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9-ые класс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785880" y="28584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Дидактические це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ориентироваться в «море» информаци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навыки самостоятельной работы, работы в коман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642960" y="264312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научить переводить числа из десятичной системы счисления в двоичную и наоборот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- сформировать умения и навыки выполнения арифметические операции над числами в двоичной записи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77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представления исследования: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Презентация – гипотез и доказательст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Буклет – интересные объекты, факты по теме исследования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3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4"/>
          <p:cNvSpPr/>
          <p:nvPr/>
        </p:nvSpPr>
        <p:spPr>
          <a:xfrm>
            <a:off x="642960" y="357120"/>
            <a:ext cx="82868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buClr>
                <a:srgbClr val="ff0000"/>
              </a:buClr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рганизационно-подготовительный этап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1 неделя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Постановка проблемы, выдвижение первых гипотез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Формирование групп, составление плана действ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Обсуждение возможных источников информации по поставленной проблеме, вопросов защиты авторских пра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Самостоятельное распределение заданий внутри групп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714240" y="214200"/>
            <a:ext cx="82155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. Экспериментально-аналитически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2, 3 недели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Участие в игре Ни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Анализ первых результатов иг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Корректировка плана (выдвижение новых гипотез и путей их проверки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Обсуждение, обобщение результатов исследований (общие выводы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642960" y="285840"/>
            <a:ext cx="8072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Этапы и сроки проведения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III. 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(3, 4 недели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1. 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2. Оформление результатов исследования в виде презентации и букле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3. Защита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b80a"/>
                </a:solidFill>
                <a:latin typeface="Corbel"/>
              </a:rPr>
              <a:t>4. Рефлексия деятельности участников проект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Картинка 2 из 9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3048120"/>
            <a:ext cx="4495680" cy="38098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500040" y="214200"/>
            <a:ext cx="84297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омендуемая литератур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students.ru/referats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российская коллекция рефера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b80a"/>
                </a:solidFill>
                <a:uFillTx/>
                <a:latin typeface="Corbel"/>
              </a:rPr>
              <a:t>http://www.abc-people.com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 энциклопедия замечательных людей и иде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potential.org.ru/Info/ArtDt200502291619PH3C2J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гра "Ним", или как математики играют в игры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dic.academic.ru/dic.nsf/ruwiki/241642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м (игр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макин И.Г. Информатика и ИКТ. Учебник для 9 класса. – М: БИНОМ, 200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19:22Z</dcterms:created>
  <dc:creator>Admin</dc:creator>
  <dc:description/>
  <dc:language>en-US</dc:language>
  <cp:lastModifiedBy>Admin</cp:lastModifiedBy>
  <dcterms:modified xsi:type="dcterms:W3CDTF">2010-05-30T16:49:42Z</dcterms:modified>
  <cp:revision>10</cp:revision>
  <dc:subject/>
  <dc:title>Игра Ним</dc:title>
</cp:coreProperties>
</file>